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4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9DD-BF03-4171-B745-4BC3A754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DDC-A78B-4913-A862-B21AF22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D05-EE7E-4B24-A2DB-0F7E2936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1C6-A811-4919-A5EA-D370826C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B706-1A66-42BC-BF3B-A675E1FC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28D6-E375-4DA3-98CC-9F5216FD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21E4-9F90-434A-B9F1-DDC6E7E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3B6-FE6F-49E7-971B-601A2CD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FC7A-F14B-4F24-A1AF-3BFC73DD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D75-8AD2-4F8E-B331-072CD9A5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20FF-F989-4F60-B2B6-C2759C6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B28-28E3-4F63-945A-F178F4A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1D0A-E267-475D-895C-53F885E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365-7936-45CF-B24C-A9C5D3C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B70A-E00D-4501-9A66-532C52A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4A89-160E-4E2E-BB0B-138CEC1D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0A9A-7FA2-4AC3-8EC5-1DF8D1A4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292-4A83-4D3F-B81F-8BDC40AD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557-50CB-4256-806C-B4828320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C9E-E627-4E1B-BACE-F5CCE49B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3BE-B925-4C25-B9C5-7E84D61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30D-DEFA-4636-A7A4-11256DA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436-88AF-46EE-B693-F3E5464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B7C-71A5-4A8C-86D2-0CD8B839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238-B51F-4BDC-8763-B7955B02692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30481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4A2-81EB-472F-9E29-FA5C988779D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228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ear 10 Sports Scien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84360" y="386064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’s the Scie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9. Cycl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033800" cy="403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4245120" cy="273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4189680" cy="246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0. Netbal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" descr="Natalie von Bertouch."/>
          <p:cNvPicPr/>
          <p:nvPr/>
        </p:nvPicPr>
        <p:blipFill>
          <a:blip r:embed="rId2"/>
          <a:stretch/>
        </p:blipFill>
        <p:spPr>
          <a:xfrm>
            <a:off x="324000" y="836640"/>
            <a:ext cx="3128760" cy="53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24360" y="836640"/>
            <a:ext cx="3743280" cy="178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2781360"/>
            <a:ext cx="3809880" cy="32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1. Motor Spor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476520" cy="522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67352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4572000" cy="2519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r each of the following slides, you are to think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ree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s of how science is assisting or working for each athlete show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ridir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xample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elme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absorbs force in colli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lov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Add friction to allow the ball to be caught easi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Synthetic materials used as they are light weight and breath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68880" y="765000"/>
            <a:ext cx="3290760" cy="460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4643280" y="2923920"/>
            <a:ext cx="1584360" cy="93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48000" y="1628640"/>
            <a:ext cx="3456000" cy="22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84720" y="3715920"/>
            <a:ext cx="2663640" cy="158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. Swimm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168720" cy="2077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765000"/>
            <a:ext cx="4033800" cy="295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2087640" cy="28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627280" y="836640"/>
            <a:ext cx="20239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. Snowboarding / Ski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64120" y="3933720"/>
            <a:ext cx="126036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48625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651640" y="981000"/>
            <a:ext cx="3057480" cy="443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2916360" cy="213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. Tenni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705040" cy="368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476440" cy="288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046320" cy="295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44944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24000" y="3860640"/>
            <a:ext cx="2376360" cy="199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. Track &amp; Fiel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2809800" cy="257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17096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333360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651640" y="3573360"/>
            <a:ext cx="2678040" cy="178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4000" y="836640"/>
            <a:ext cx="504000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. Footbal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2887560" cy="410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19640" y="765000"/>
            <a:ext cx="223812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836640"/>
            <a:ext cx="280368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2054160" cy="242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6. Crick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562120" cy="30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58732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585880" cy="1874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802480" y="836640"/>
            <a:ext cx="3111480" cy="439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03640" y="3933720"/>
            <a:ext cx="208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8. Water Spor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527280" cy="275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5496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67280" y="765000"/>
            <a:ext cx="4886280" cy="439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3:50:23Z</dcterms:created>
  <dc:creator>DE&amp;T User</dc:creator>
  <dc:description/>
  <cp:keywords/>
  <dc:language>en-US</dc:language>
  <cp:lastModifiedBy>DE&amp;T User</cp:lastModifiedBy>
  <dcterms:modified xsi:type="dcterms:W3CDTF">2008-07-09T00:58:14Z</dcterms:modified>
  <cp:revision>12</cp:revision>
  <dc:subject/>
  <dc:title>Year 10 Sports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